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65A-B309-43CC-9652-C7AE32F9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351-6CC8-4101-A4F4-7D5F70C4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C5B-4DC1-4965-8D70-BD5EA2A4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39F-E4A0-4093-8442-619BFBED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D79-953B-4613-8789-3A2D7632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E16-BA2D-4325-AF04-E050AACA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680-B605-4C38-9509-AD5124C1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03D-B5D2-4F41-8905-D6BFD4AC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962-0073-4171-8896-8AE0F6D8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A23-23DA-4971-90E0-41356808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8DA-64D1-480A-B92F-DA33E35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681-E8D3-4802-A814-4021922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35BC-714A-4184-9730-A76D50B107D3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uesday, February 07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support project organization 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Workareas/packag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3988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3556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3340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46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08600" y="2333520"/>
            <a:ext cx="422244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8600" y="2352600"/>
            <a:ext cx="422244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412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9040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8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573200"/>
            <a:ext cx="87854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826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(B1)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5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9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7T17:05:42Z</dcterms:modified>
  <cp:revision>27</cp:revision>
  <dc:subject/>
  <dc:title>Jerry - DL</dc:title>
</cp:coreProperties>
</file>